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9D2-5EEB-443C-A633-D6B56C3E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E76-88FB-4BD4-B848-6A5D1A1A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47A-DD1A-476A-A17B-F8177C4C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C98-B041-4A1D-8309-7B4A64FC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0090-C086-4518-B5E3-D9BFED52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CAAC-4765-475C-A11E-15193EA3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9563-AD32-4B7F-80B3-890C1179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D8FB-9614-483D-A596-DADFE340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5354-C138-4D70-8F12-C8CD7948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B718-3DF8-4056-837C-4E6D0C8E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EAE8-E094-4DED-817A-79095A25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8F14-5A81-4306-B854-779FD16B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CDA4-5A84-4B83-A425-B94A5264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4CE8-7E18-45D9-B683-129C507F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435E-F892-4E01-8FFC-F2B37257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2422-BE69-4F59-94D3-F6452771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CC6F-8498-4F83-B2FB-A35EC311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4B42-21A1-4C4B-BFF7-D87FD114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D02F-8B5A-4C39-8C74-0F40A8E0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F1E-112D-4871-8CA3-12AA2D3A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A51-D368-4BEF-8226-0A98323B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F16-24F5-4CB5-A31F-B71A0B29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0F5C-3062-45FD-B0AF-623A721E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D45-D2F0-4C3A-8607-B1E60EF5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1544-0E8D-41FB-8FBC-83698316FD5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3BE2-AE6F-4B97-9933-AB1E62D33C7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ransatlantic Slave Tra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apted from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iccle.ed.psu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dvanced World His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ddle Passage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ditions on Board the Ship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ves chained together and crammed into spaces sometimes less than five feet hi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vers packed three of four hundred Africans into the ship cargo ho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tle ventilation, human waste, horrific odors.  Uncl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ritish Slave Ship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447012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ddle Passag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ght packing - belly to back, chained in twos, wrist to ankle (660+), na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se packing - shoulder to shoulder chained wrist to wrist or ankle to ank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 and woman separated (men placed towards bow, women toward ster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 once or twice a day and brought on deck for limited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5"/>
          <a:stretch/>
        </p:blipFill>
        <p:spPr>
          <a:xfrm>
            <a:off x="1608120" y="1766880"/>
            <a:ext cx="3159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ddle Passag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urney lasted 6-8 wee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e to high mortality rate, cargo was insured (reimbursed for drowning accidents but not for deaths from disease or sick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to dump your cargo for sickness or food short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 mutinies on board ships were common (1 out of every 10 voyages across the Atlantic experience a revol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t resistance (attempted suicide, jumped overboard, refusal to ea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eck for a limited tim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ce the Slave” for exc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estination of Cap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ibbe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in Americ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tish North Americ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lave Resistance: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assive and Active Resista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ing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king ill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ing slowd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ting acts of arson and sabo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6"/>
          <a:stretch/>
        </p:blipFill>
        <p:spPr>
          <a:xfrm>
            <a:off x="4419720" y="1828800"/>
            <a:ext cx="419076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lave Revolt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no River-  South Car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s tried to escape to Spanish Flor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egacy of Slave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62000" y="1766880"/>
          <a:ext cx="7472520" cy="4522680"/>
        </p:xfrm>
        <a:graphic>
          <a:graphicData uri="http://schemas.openxmlformats.org/drawingml/2006/table">
            <a:tbl>
              <a:tblPr/>
              <a:tblGrid>
                <a:gridCol w="2490840"/>
                <a:gridCol w="2490840"/>
                <a:gridCol w="2490840"/>
              </a:tblGrid>
              <a:tr h="23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gri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eet Potat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ke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ing Style (cooperative labo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ting (heel to to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ices (red pepper, sesame, caju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kra, black eyed pe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Dis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mbo, jambala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h and hot cak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eet potato 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s/Ja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 and respon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irit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 and response patter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otional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2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e spirits and sou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2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d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ales and Wo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2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ckster takes (Anansi the Spider, Brer Rabbit, Bugs Bunn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2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ds like bogus, bug, phony, yam, tote, gumbo, tater, jamboree, jazz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SzPct val="102837"/>
                        <a:buBlip>
                          <a:blip r:embed="rId2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ole Langu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y was Africa vulnerable to the Slave Trade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45705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Fra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ing Ro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ed familiarity with the Amer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ility of People (high birth r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vilizations and Skills (metalworking, farming, her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iplomatic repercu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7"/>
          <a:stretch/>
        </p:blipFill>
        <p:spPr>
          <a:xfrm>
            <a:off x="5562720" y="1752480"/>
            <a:ext cx="3243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untries Participating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766880"/>
            <a:ext cx="19051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8"/>
          <a:stretch/>
        </p:blipFill>
        <p:spPr>
          <a:xfrm>
            <a:off x="3124080" y="175248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ography of Slave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laved Africans mostly came from the area stretching from the Senegal River in Africa to Ang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s divided the area into five reg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per Guinea Co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ory Co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Guinea Co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g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8"/>
          <a:stretch/>
        </p:blipFill>
        <p:spPr>
          <a:xfrm>
            <a:off x="5486400" y="1766880"/>
            <a:ext cx="32148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ow did slavery differ from indentured servitude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2209680"/>
          <a:ext cx="7848720" cy="44038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ntured Serv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cted Time Peri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life/freedom was not contractu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ld be bought, sold, or leas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ld be punished by whipp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re allowed to own propert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property owne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Line 34"/>
          <p:cNvSpPr/>
          <p:nvPr/>
        </p:nvSpPr>
        <p:spPr>
          <a:xfrm>
            <a:off x="3809880" y="4191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5"/>
          <p:cNvSpPr/>
          <p:nvPr/>
        </p:nvSpPr>
        <p:spPr>
          <a:xfrm>
            <a:off x="3809880" y="5105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wo main patterns of Triangular Tra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m from New England to West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s to sugar is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asses home to the New England distill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factured goods from England to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s exchanged for slaves taken to West Indies. Profits used to purchase sugar (and other goods) for Eng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ddle Passage</a:t>
            </a:r>
            <a:br>
              <a:rPr sz="4400"/>
            </a:b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Origins of the Infamous Middle Passag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0" y="17524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ddle leg of a three part voy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an and ended in Euro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d cargo of iron, cloth, brandy, firearms, gunpow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nded on Africa’s Slave Coast and exchanged cargo for Af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sail for the Americas, where slaves were exchanged for sugar, tobacco, m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 brought the ship back to Euro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7"/>
          <a:stretch/>
        </p:blipFill>
        <p:spPr>
          <a:xfrm>
            <a:off x="1608120" y="1766880"/>
            <a:ext cx="3159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ddle Passage 1600 - 1850’s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Cap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. 60 forts build along the west coast of Af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ed in slave caravans to the forts some 1000 miles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ed by the Europeans and bran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half survived the death ma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in underground dungeons until they were boarded on 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6"/>
          <a:stretch/>
        </p:blipFill>
        <p:spPr>
          <a:xfrm>
            <a:off x="1062000" y="2738520"/>
            <a:ext cx="380844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ddle Passage Statistic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-16 million Africans forcibly transported across the Atlantic from 1500-19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million died during the Middle Passage (10-1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15-30% dies during the march to the co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100 slaves that reached the New World, another 40 died in Africa or during the Middle Pa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5:38:33Z</dcterms:created>
  <dc:creator>Laurie Wade</dc:creator>
  <dc:description/>
  <cp:keywords/>
  <dc:language>en-US</dc:language>
  <cp:lastModifiedBy>Melissa Carter</cp:lastModifiedBy>
  <cp:lastPrinted>1970-01-01T00:31:14Z</cp:lastPrinted>
  <dcterms:modified xsi:type="dcterms:W3CDTF">2011-09-12T01:04:25Z</dcterms:modified>
  <cp:revision>25</cp:revision>
  <dc:subject/>
  <dc:title>PowerPoint Presentation  -  Transatlantic Slave Trade</dc:title>
</cp:coreProperties>
</file>